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404640" y="3684600"/>
            <a:ext cx="1405800" cy="1730880"/>
            <a:chOff x="404640" y="3684600"/>
            <a:chExt cx="1405800" cy="1730880"/>
          </a:xfrm>
        </p:grpSpPr>
        <p:sp>
          <p:nvSpPr>
            <p:cNvPr id="39" name=""/>
            <p:cNvSpPr/>
            <p:nvPr/>
          </p:nvSpPr>
          <p:spPr>
            <a:xfrm>
              <a:off x="404640" y="4214520"/>
              <a:ext cx="1405800" cy="14040"/>
            </a:xfrm>
            <a:prstGeom prst="line">
              <a:avLst/>
            </a:prstGeom>
            <a:ln w="108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3684600"/>
              <a:ext cx="11160" cy="1730880"/>
            </a:xfrm>
            <a:prstGeom prst="line">
              <a:avLst/>
            </a:prstGeom>
            <a:ln w="108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1" name=""/>
          <p:cNvSpPr/>
          <p:nvPr/>
        </p:nvSpPr>
        <p:spPr>
          <a:xfrm>
            <a:off x="541440" y="5418000"/>
            <a:ext cx="12245760" cy="1800"/>
          </a:xfrm>
          <a:prstGeom prst="line">
            <a:avLst/>
          </a:prstGeom>
          <a:ln w="54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49400" y="4692600"/>
            <a:ext cx="1954800" cy="868680"/>
            <a:chOff x="1949400" y="4692600"/>
            <a:chExt cx="1954800" cy="868680"/>
          </a:xfrm>
        </p:grpSpPr>
        <p:sp>
          <p:nvSpPr>
            <p:cNvPr id="43" name=""/>
            <p:cNvSpPr/>
            <p:nvPr/>
          </p:nvSpPr>
          <p:spPr>
            <a:xfrm>
              <a:off x="2592360" y="5235480"/>
              <a:ext cx="328320" cy="325800"/>
            </a:xfrm>
            <a:prstGeom prst="pie">
              <a:avLst/>
            </a:prstGeom>
            <a:solidFill>
              <a:srgbClr val="000000"/>
            </a:solidFill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754720" y="5006880"/>
              <a:ext cx="14040" cy="228600"/>
            </a:xfrm>
            <a:prstGeom prst="line">
              <a:avLst/>
            </a:prstGeom>
            <a:ln w="54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49400" y="4692600"/>
              <a:ext cx="19548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9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hysical Birth</a:t>
              </a:r>
              <a:endParaRPr b="0" lang="en-US" sz="1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425840" y="7043760"/>
            <a:ext cx="6392160" cy="986040"/>
            <a:chOff x="4425840" y="7043760"/>
            <a:chExt cx="6392160" cy="986040"/>
          </a:xfrm>
        </p:grpSpPr>
        <p:sp>
          <p:nvSpPr>
            <p:cNvPr id="47" name=""/>
            <p:cNvSpPr/>
            <p:nvPr/>
          </p:nvSpPr>
          <p:spPr>
            <a:xfrm>
              <a:off x="4425840" y="7043760"/>
              <a:ext cx="6392160" cy="797040"/>
            </a:xfrm>
            <a:prstGeom prst="leftRightArrow">
              <a:avLst>
                <a:gd name="adj1" fmla="val 50000"/>
                <a:gd name="adj2" fmla="val 34753"/>
              </a:avLst>
            </a:prstGeom>
            <a:noFill/>
            <a:ln w="54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88840" y="7195680"/>
              <a:ext cx="44510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dom from the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ower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f Sin</a:t>
              </a:r>
              <a:endParaRPr b="0" lang="en-US" sz="22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729400" y="5418000"/>
            <a:ext cx="38131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mission / Good Works / Obedience</a:t>
            </a:r>
            <a:endParaRPr b="0" lang="en-US" sz="1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"/>
          <p:cNvSpPr/>
          <p:nvPr/>
        </p:nvSpPr>
        <p:spPr>
          <a:xfrm>
            <a:off x="6856560" y="3029040"/>
            <a:ext cx="1922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1900" spc="-1" strike="noStrike" u="sng">
                <a:solidFill>
                  <a:srgbClr val="6735f5"/>
                </a:solidFill>
                <a:uFillTx/>
                <a:latin typeface="Arial"/>
                <a:ea typeface="Arial"/>
              </a:rPr>
              <a:t>Sanctification</a:t>
            </a:r>
            <a:endParaRPr b="0" lang="en-US" sz="1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"/>
          <p:cNvSpPr/>
          <p:nvPr/>
        </p:nvSpPr>
        <p:spPr>
          <a:xfrm>
            <a:off x="4457880" y="3359160"/>
            <a:ext cx="7254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Process of yielding to the Guidance and Empowerment of the Holy Spirit)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"/>
          <p:cNvSpPr/>
          <p:nvPr/>
        </p:nvSpPr>
        <p:spPr>
          <a:xfrm>
            <a:off x="6735600" y="3610080"/>
            <a:ext cx="2000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Discipleship)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"/>
          <p:cNvSpPr/>
          <p:nvPr/>
        </p:nvSpPr>
        <p:spPr>
          <a:xfrm>
            <a:off x="4411800" y="5529240"/>
            <a:ext cx="6337080" cy="1697040"/>
          </a:xfrm>
          <a:prstGeom prst="pie">
            <a:avLst/>
          </a:prstGeom>
          <a:noFill/>
          <a:ln w="54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86320" y="2409840"/>
            <a:ext cx="1867680" cy="7264800"/>
            <a:chOff x="3586320" y="2409840"/>
            <a:chExt cx="1867680" cy="7264800"/>
          </a:xfrm>
        </p:grpSpPr>
        <p:grpSp>
          <p:nvGrpSpPr>
            <p:cNvPr id="55" name=""/>
            <p:cNvGrpSpPr/>
            <p:nvPr/>
          </p:nvGrpSpPr>
          <p:grpSpPr>
            <a:xfrm>
              <a:off x="3586320" y="2409840"/>
              <a:ext cx="1867680" cy="6675480"/>
              <a:chOff x="3586320" y="2409840"/>
              <a:chExt cx="1867680" cy="6675480"/>
            </a:xfrm>
          </p:grpSpPr>
          <p:sp>
            <p:nvSpPr>
              <p:cNvPr id="56" name=""/>
              <p:cNvSpPr/>
              <p:nvPr/>
            </p:nvSpPr>
            <p:spPr>
              <a:xfrm>
                <a:off x="4267080" y="5234760"/>
                <a:ext cx="328680" cy="330480"/>
              </a:xfrm>
              <a:prstGeom prst="pie">
                <a:avLst/>
              </a:prstGeom>
              <a:solidFill>
                <a:srgbClr val="000000"/>
              </a:solidFill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586320" y="2700000"/>
                <a:ext cx="1636560" cy="6385320"/>
                <a:chOff x="3586320" y="2700000"/>
                <a:chExt cx="1636560" cy="6385320"/>
              </a:xfrm>
            </p:grpSpPr>
            <p:sp>
              <p:nvSpPr>
                <p:cNvPr id="58" name=""/>
                <p:cNvSpPr/>
                <p:nvPr/>
              </p:nvSpPr>
              <p:spPr>
                <a:xfrm rot="16200000">
                  <a:off x="3700800" y="7563240"/>
                  <a:ext cx="1407600" cy="1636560"/>
                </a:xfrm>
                <a:prstGeom prst="pie">
                  <a:avLst/>
                </a:prstGeom>
                <a:solidFill>
                  <a:srgbClr val="ffffff"/>
                </a:solidFill>
                <a:ln w="54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noAutofit/>
                </a:bodyPr>
                <a:p>
                  <a:pPr algn="ctr">
                    <a:tabLst>
                      <a:tab algn="l" pos="0"/>
                      <a:tab algn="l" pos="584280"/>
                      <a:tab algn="l" pos="1168560"/>
                      <a:tab algn="l" pos="1752480"/>
                      <a:tab algn="l" pos="2336760"/>
                      <a:tab algn="l" pos="2921040"/>
                      <a:tab algn="l" pos="3505320"/>
                      <a:tab algn="l" pos="4089240"/>
                      <a:tab algn="l" pos="4673520"/>
                      <a:tab algn="l" pos="5257800"/>
                      <a:tab algn="l" pos="5842080"/>
                      <a:tab algn="l" pos="6426360"/>
                      <a:tab algn="l" pos="7010280"/>
                      <a:tab algn="l" pos="7594560"/>
                      <a:tab algn="l" pos="8178840"/>
                      <a:tab algn="l" pos="8763120"/>
                      <a:tab algn="l" pos="9347040"/>
                      <a:tab algn="l" pos="9931320"/>
                      <a:tab algn="l" pos="105156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Helvetica Light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4397040" y="2700000"/>
                  <a:ext cx="88920" cy="4989240"/>
                </a:xfrm>
                <a:prstGeom prst="line">
                  <a:avLst/>
                </a:prstGeom>
                <a:ln w="54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ctr">
                    <a:tabLst>
                      <a:tab algn="l" pos="0"/>
                      <a:tab algn="l" pos="584280"/>
                      <a:tab algn="l" pos="1168560"/>
                      <a:tab algn="l" pos="1752480"/>
                      <a:tab algn="l" pos="2336760"/>
                      <a:tab algn="l" pos="2921040"/>
                      <a:tab algn="l" pos="3505320"/>
                      <a:tab algn="l" pos="4089240"/>
                      <a:tab algn="l" pos="4673520"/>
                      <a:tab algn="l" pos="5257800"/>
                      <a:tab algn="l" pos="5842080"/>
                      <a:tab algn="l" pos="6426360"/>
                      <a:tab algn="l" pos="7010280"/>
                      <a:tab algn="l" pos="7594560"/>
                      <a:tab algn="l" pos="8178840"/>
                      <a:tab algn="l" pos="8763120"/>
                      <a:tab algn="l" pos="9347040"/>
                      <a:tab algn="l" pos="9931320"/>
                      <a:tab algn="l" pos="105156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Helvetica Light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3686400" y="2409840"/>
                <a:ext cx="1767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360" rIns="126360" tIns="72360" bIns="72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1" lang="en-US" sz="1900" spc="-1" strike="noStrike" u="sng">
                    <a:solidFill>
                      <a:srgbClr val="6735f5"/>
                    </a:solidFill>
                    <a:uFillTx/>
                    <a:latin typeface="Arial"/>
                    <a:ea typeface="Arial"/>
                  </a:rPr>
                  <a:t>Justification</a:t>
                </a:r>
                <a:endParaRPr b="0" lang="en-US" sz="19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597480" y="8254440"/>
              <a:ext cx="165564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dom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enalty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167760" y="2487600"/>
            <a:ext cx="2716920" cy="6920280"/>
            <a:chOff x="9167760" y="2487600"/>
            <a:chExt cx="2716920" cy="6920280"/>
          </a:xfrm>
        </p:grpSpPr>
        <p:grpSp>
          <p:nvGrpSpPr>
            <p:cNvPr id="63" name=""/>
            <p:cNvGrpSpPr/>
            <p:nvPr/>
          </p:nvGrpSpPr>
          <p:grpSpPr>
            <a:xfrm>
              <a:off x="9167760" y="2487600"/>
              <a:ext cx="2716920" cy="6590520"/>
              <a:chOff x="9167760" y="2487600"/>
              <a:chExt cx="2716920" cy="6590520"/>
            </a:xfrm>
          </p:grpSpPr>
          <p:sp>
            <p:nvSpPr>
              <p:cNvPr id="64" name=""/>
              <p:cNvSpPr/>
              <p:nvPr/>
            </p:nvSpPr>
            <p:spPr>
              <a:xfrm>
                <a:off x="10701000" y="5236560"/>
                <a:ext cx="341640" cy="330120"/>
              </a:xfrm>
              <a:prstGeom prst="pie">
                <a:avLst/>
              </a:prstGeom>
              <a:solidFill>
                <a:srgbClr val="000000"/>
              </a:solidFill>
              <a:ln w="36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9167760" y="2487600"/>
                <a:ext cx="2716920" cy="6590520"/>
                <a:chOff x="9167760" y="2487600"/>
                <a:chExt cx="2716920" cy="659052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9167760" y="2487600"/>
                  <a:ext cx="2716920" cy="6590520"/>
                  <a:chOff x="9167760" y="2487600"/>
                  <a:chExt cx="2716920" cy="659052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9990360" y="2803320"/>
                    <a:ext cx="1702440" cy="6274800"/>
                    <a:chOff x="9990360" y="2803320"/>
                    <a:chExt cx="1702440" cy="6274800"/>
                  </a:xfrm>
                </p:grpSpPr>
                <p:sp>
                  <p:nvSpPr>
                    <p:cNvPr id="68" name=""/>
                    <p:cNvSpPr/>
                    <p:nvPr/>
                  </p:nvSpPr>
                  <p:spPr>
                    <a:xfrm rot="16200000">
                      <a:off x="10144440" y="7529760"/>
                      <a:ext cx="1393920" cy="17024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54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10816920" y="2803320"/>
                      <a:ext cx="37440" cy="4866480"/>
                    </a:xfrm>
                    <a:prstGeom prst="line">
                      <a:avLst/>
                    </a:prstGeom>
                    <a:ln w="54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p:txBody>
                </p:sp>
              </p:grpSp>
              <p:sp>
                <p:nvSpPr>
                  <p:cNvPr id="70" name=""/>
                  <p:cNvSpPr/>
                  <p:nvPr/>
                </p:nvSpPr>
                <p:spPr>
                  <a:xfrm>
                    <a:off x="10127880" y="2487600"/>
                    <a:ext cx="1756800" cy="45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360" rIns="126360" tIns="72360" bIns="723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300320"/>
                        <a:tab algn="l" pos="2600280"/>
                        <a:tab algn="l" pos="3900600"/>
                        <a:tab algn="l" pos="5200560"/>
                        <a:tab algn="l" pos="6500880"/>
                        <a:tab algn="l" pos="7800840"/>
                        <a:tab algn="l" pos="9101160"/>
                        <a:tab algn="l" pos="10401480"/>
                      </a:tabLst>
                    </a:pPr>
                    <a:r>
                      <a:rPr b="1" lang="en-US" sz="1900" spc="-1" strike="noStrike" u="sng">
                        <a:solidFill>
                          <a:srgbClr val="6735f5"/>
                        </a:solidFill>
                        <a:uFillTx/>
                        <a:latin typeface="Arial"/>
                        <a:ea typeface="Arial"/>
                      </a:rPr>
                      <a:t>Glorification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Helvetica Light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9167760" y="4132440"/>
                    <a:ext cx="2060640" cy="46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6360" rIns="126360" tIns="72360" bIns="72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300320"/>
                        <a:tab algn="l" pos="2600280"/>
                        <a:tab algn="l" pos="3900600"/>
                        <a:tab algn="l" pos="5200560"/>
                        <a:tab algn="l" pos="6500880"/>
                        <a:tab algn="l" pos="7800840"/>
                        <a:tab algn="l" pos="9101160"/>
                        <a:tab algn="l" pos="10401480"/>
                      </a:tabLst>
                    </a:pPr>
                    <a:r>
                      <a:rPr b="1" lang="en-US" sz="19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Arial"/>
                      </a:rPr>
                      <a:t>Physical Death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Helvetica Light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9204840" y="4463280"/>
                  <a:ext cx="1632240" cy="11160"/>
                </a:xfrm>
                <a:prstGeom prst="line">
                  <a:avLst/>
                </a:prstGeom>
                <a:ln w="54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4560" bIns="-34560" anchor="t">
                  <a:noAutofit/>
                </a:bodyPr>
                <a:p>
                  <a:pPr algn="ctr">
                    <a:tabLst>
                      <a:tab algn="l" pos="0"/>
                      <a:tab algn="l" pos="584280"/>
                      <a:tab algn="l" pos="1168560"/>
                      <a:tab algn="l" pos="1752480"/>
                      <a:tab algn="l" pos="2336760"/>
                      <a:tab algn="l" pos="2921040"/>
                      <a:tab algn="l" pos="3505320"/>
                      <a:tab algn="l" pos="4089240"/>
                      <a:tab algn="l" pos="4673520"/>
                      <a:tab algn="l" pos="5257800"/>
                      <a:tab algn="l" pos="5842080"/>
                      <a:tab algn="l" pos="6426360"/>
                      <a:tab algn="l" pos="7010280"/>
                      <a:tab algn="l" pos="7594560"/>
                      <a:tab algn="l" pos="8178840"/>
                      <a:tab algn="l" pos="8763120"/>
                      <a:tab algn="l" pos="9347040"/>
                      <a:tab algn="l" pos="9931320"/>
                      <a:tab algn="l" pos="105156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Helvetica Light"/>
                  </a:endParaRPr>
                </a:p>
              </p:txBody>
            </p:sp>
          </p:grpSp>
        </p:grpSp>
        <p:sp>
          <p:nvSpPr>
            <p:cNvPr id="73" name=""/>
            <p:cNvSpPr/>
            <p:nvPr/>
          </p:nvSpPr>
          <p:spPr>
            <a:xfrm>
              <a:off x="9929160" y="8241120"/>
              <a:ext cx="188820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dom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esence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of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</a:t>
              </a:r>
              <a:endParaRPr b="0" lang="en-US" sz="17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